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73BA-A553-4649-9CB3-019CB455C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5280" y="4018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8225-C32C-414A-A22C-F6CCFFCF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1232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3A9B-455A-4586-BEF4-239B582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7772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016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9528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7772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016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194E-37CA-4C46-971E-165C36C52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BFA50-F645-4C3A-BF81-4E41585C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E410D-F885-4F14-BC4F-B1B8A7A6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3AAC4-F0ED-44E7-B599-3074D483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88D7D-B6AA-4C08-9B90-D7F2482F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20E9E-F8DF-46F4-97FF-7BCB22EF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B801F-D09D-4747-9F7C-2F89845F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43FBE-2ED8-4BCE-A950-0252A49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2BE5-5ACC-4336-AF65-9E9B156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1232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7B154-E5CB-48BE-B20D-34E8E270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401AF-19C7-4B2C-9594-9C65526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5280" y="4018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9909C-5510-4B4D-A348-C00004BD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1232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5BE9-D937-491C-ABFC-CB05ED8B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7772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6016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9528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7772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6016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EA185-26C2-468D-B138-64CCC282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A9A5-E4E6-415F-B8EB-2B5BB37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AA3C-903F-4B1E-970A-C39899EA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C4D7-04DF-4608-8B7E-004C4729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F01E-337E-41A9-A41B-12BBD399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D975-633D-4A9F-8166-9640035C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1232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85F9-BF23-4539-B5B7-F1621916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63AA-26D6-440A-BB91-579DDDA2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7451280" y="0"/>
            <a:ext cx="169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ril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-360" y="6381360"/>
            <a:ext cx="477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3CEE-D454-4C06-9701-83406A6D339A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7848720" y="6165720"/>
            <a:ext cx="12952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A931-FF98-49F0-B9DC-A592EE422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95280" cy="56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0720" y="18900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7d"/>
                </a:solidFill>
                <a:latin typeface="Bookman Old Style"/>
              </a:rPr>
              <a:t>              </a:t>
            </a:r>
            <a:r>
              <a:rPr b="0" lang="en-GB" sz="2000" spc="-1" strike="noStrike">
                <a:solidFill>
                  <a:srgbClr val="00007d"/>
                </a:solidFill>
                <a:latin typeface="Bookman Old Style"/>
              </a:rPr>
              <a:t>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1577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Pav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Shvai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2565360"/>
            <a:ext cx="388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Bookman Old Style"/>
              </a:rPr>
              <a:t>Suffix Tre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40" y="558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 (ST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08296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ooted tre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eaves numbe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Each internal node, excluding the root, of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as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east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Each edge of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 labeled with a non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ubstring of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No two edges out of a node can have edge-lab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arting with the same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leaf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concaten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edge-labels on the path from the root to leaf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ctly spells out the suffix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mely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starts at positio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4CA6-361A-4517-8346-0AEF92617A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xabx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A310-19E9-4402-8DE3-3CFEA56639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istence of a suffix tre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83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f one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2400" spc="-1" strike="noStrike" baseline="-25000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atches a 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of an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then the path for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2400" spc="-1" strike="noStrike" baseline="-25000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uld not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t a le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xab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xa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x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ow to avoid this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ssume that the last character o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pp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owhere else in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dd a new character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not in the alphabet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end o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9F71-24B2-4278-8A11-9F0F62BDB1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xabxac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21EF-5929-40D5-A7FC-D552731A37A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9720" y="1773000"/>
            <a:ext cx="854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uilding STs in linear tim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kkonen’s algorith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A701-629E-431F-BBFC-2AC4731656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5640" y="343080"/>
            <a:ext cx="8762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ilding STs in linea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7880" y="1760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iner’s algorithm [FOCS, 197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gorithm of 1973” called by Kn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lgorithm of linear time, but much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cGreight’s algorithm [JACM, 197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time and quadratic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kkonen’s algorithm [Algorithmica, 199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time algorithm and l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at we will focu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FC6C-F546-4395-B658-575E3BFD1B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icit Suffix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6760" y="155700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konen’s algorithm constructs a sequence of implicit STs, the last of which is converted to a true ST of the given st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licit suffix tree for string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ree obtained from the suffix tree f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ll edge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any edges that now have no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any node that does not still have at least two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licit suffix tree for prefix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1,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imilarly defined based on the suffix tree fo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1,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$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denote the implicit suffix tree fo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1,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ffix is in the tree, but may not end at a le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5A45-9B08-42F0-9AE3-98853722F4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6400" y="457200"/>
            <a:ext cx="8877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icit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tree for xabxa from tree for xabxa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$, abxa$, bxa$, xa$, a$, $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5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2" idx="6"/>
            <a:endCxn id="146" idx="6"/>
          </p:cNvCxnSpPr>
          <p:nvPr/>
        </p:nvCxnSpPr>
        <p:spPr>
          <a:xfrm>
            <a:off x="259056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42" idx="5"/>
            <a:endCxn id="149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2" idx="0"/>
            <a:endCxn id="150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49" idx="2"/>
            <a:endCxn id="147" idx="6"/>
          </p:cNvCxnSpPr>
          <p:nvPr/>
        </p:nvCxnSpPr>
        <p:spPr>
          <a:xfrm flipH="1">
            <a:off x="3047400" y="3695400"/>
            <a:ext cx="1530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49" idx="3"/>
            <a:endCxn id="151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4"/>
            <a:endCxn id="157" idx="1"/>
          </p:cNvCxnSpPr>
          <p:nvPr/>
        </p:nvCxnSpPr>
        <p:spPr>
          <a:xfrm flipH="1">
            <a:off x="427752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0" idx="6"/>
            <a:endCxn id="148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81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213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40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78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9764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561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8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7B37-B308-431E-88C5-880705CFCD3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$, abxa$, bxa$, xa$, a$, $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5" idx="3"/>
            <a:endCxn id="188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5" idx="6"/>
            <a:endCxn id="189" idx="6"/>
          </p:cNvCxnSpPr>
          <p:nvPr/>
        </p:nvCxnSpPr>
        <p:spPr>
          <a:xfrm>
            <a:off x="259056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5" idx="5"/>
            <a:endCxn id="192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5" idx="0"/>
            <a:endCxn id="193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2" idx="2"/>
            <a:endCxn id="190" idx="6"/>
          </p:cNvCxnSpPr>
          <p:nvPr/>
        </p:nvCxnSpPr>
        <p:spPr>
          <a:xfrm flipH="1">
            <a:off x="3047400" y="3695400"/>
            <a:ext cx="1530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2" idx="3"/>
            <a:endCxn id="194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3" idx="4"/>
            <a:endCxn id="200" idx="1"/>
          </p:cNvCxnSpPr>
          <p:nvPr/>
        </p:nvCxnSpPr>
        <p:spPr>
          <a:xfrm flipH="1">
            <a:off x="427752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3" idx="6"/>
            <a:endCxn id="191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81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213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40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78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9764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561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8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50AB-5A23-455B-B85E-6A7EE05373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the Removal of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31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28" idx="6"/>
            <a:endCxn id="232" idx="6"/>
          </p:cNvCxnSpPr>
          <p:nvPr/>
        </p:nvCxnSpPr>
        <p:spPr>
          <a:xfrm>
            <a:off x="259056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28" idx="5"/>
            <a:endCxn id="235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28" idx="0"/>
            <a:endCxn id="236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5" idx="2"/>
            <a:endCxn id="233" idx="6"/>
          </p:cNvCxnSpPr>
          <p:nvPr/>
        </p:nvCxnSpPr>
        <p:spPr>
          <a:xfrm flipH="1">
            <a:off x="3047400" y="3695400"/>
            <a:ext cx="1530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2" name=""/>
          <p:cNvCxnSpPr>
            <a:stCxn id="235" idx="3"/>
            <a:endCxn id="237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6" idx="4"/>
            <a:endCxn id="243" idx="1"/>
          </p:cNvCxnSpPr>
          <p:nvPr/>
        </p:nvCxnSpPr>
        <p:spPr>
          <a:xfrm flipH="1">
            <a:off x="427752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6" idx="6"/>
            <a:endCxn id="234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561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68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1863-3C30-4423-928B-2106F7747A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96344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s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STs in linear tim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konen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of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2C6F-E1D6-4B85-B624-DD469D7A61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 unlabeled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unlabeled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5" idx="3"/>
            <a:endCxn id="268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65" idx="6"/>
            <a:endCxn id="269" idx="6"/>
          </p:cNvCxnSpPr>
          <p:nvPr/>
        </p:nvCxnSpPr>
        <p:spPr>
          <a:xfrm>
            <a:off x="2590560" y="3085920"/>
            <a:ext cx="1080" cy="61020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76" name=""/>
          <p:cNvCxnSpPr>
            <a:stCxn id="265" idx="5"/>
            <a:endCxn id="272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73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2" idx="2"/>
            <a:endCxn id="270" idx="6"/>
          </p:cNvCxnSpPr>
          <p:nvPr/>
        </p:nvCxnSpPr>
        <p:spPr>
          <a:xfrm flipH="1">
            <a:off x="3047400" y="3695400"/>
            <a:ext cx="153000" cy="61020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79" name=""/>
          <p:cNvCxnSpPr>
            <a:stCxn id="272" idx="3"/>
            <a:endCxn id="274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3" idx="4"/>
            <a:endCxn id="280" idx="1"/>
          </p:cNvCxnSpPr>
          <p:nvPr/>
        </p:nvCxnSpPr>
        <p:spPr>
          <a:xfrm flipH="1">
            <a:off x="4277520" y="4343040"/>
            <a:ext cx="27720" cy="39276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82" name=""/>
          <p:cNvCxnSpPr>
            <a:stCxn id="273" idx="6"/>
            <a:endCxn id="271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561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8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27E6-0E1E-4C70-9E5D-E9DD681677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the Removal of Unlabeled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unlabeled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302" idx="3"/>
            <a:endCxn id="305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2" idx="5"/>
            <a:endCxn id="307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2" idx="0"/>
            <a:endCxn id="308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7" idx="3"/>
            <a:endCxn id="309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08" idx="6"/>
            <a:endCxn id="306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F48B-0B6D-432A-BF8F-F8F3E61B6B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 interior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internal nodes with only on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3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30" idx="5"/>
            <a:endCxn id="335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30" idx="0"/>
            <a:endCxn id="336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5" idx="3"/>
            <a:endCxn id="337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6" idx="6"/>
            <a:endCxn id="334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365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E562-AE54-4374-B002-AF36A3EDF3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al implic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internal nodes with only on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60" idx="3"/>
            <a:endCxn id="363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0" idx="5"/>
            <a:endCxn id="365" idx="1"/>
          </p:cNvCxnSpPr>
          <p:nvPr/>
        </p:nvCxnSpPr>
        <p:spPr>
          <a:xfrm>
            <a:off x="2579760" y="3112920"/>
            <a:ext cx="1318320" cy="238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60" idx="0"/>
            <a:endCxn id="364" idx="4"/>
          </p:cNvCxnSpPr>
          <p:nvPr/>
        </p:nvCxnSpPr>
        <p:spPr>
          <a:xfrm>
            <a:off x="2552760" y="3047760"/>
            <a:ext cx="4115520" cy="289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28213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688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501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73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6832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43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3657-9217-4E91-92A8-2D17BE137FB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6000" y="406440"/>
            <a:ext cx="892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kkonen’s Algorithm (U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07880" y="1671120"/>
            <a:ext cx="8483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implicit suffix tree of the str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1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Construct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+1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 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= 1 to m-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* phas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 = 1 to i+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* extens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nd of the path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root whose label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 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xtend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uffix extension rul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a suffix tre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F311-52BC-44AF-B13A-184C1F777E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024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xabxacd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x to x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xa to x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a to 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C88E-F181-47A8-B776-E222B614C7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ns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07880" y="1633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tend eac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+1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ds at a 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haract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end of the label on that leaf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n’t end at a leaf, and the following character is no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a new leaf edge for charact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to create an internal node if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s in the middle of an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+1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ready in th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7EC5-3666-42EE-BA26-79E89BC6E6D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tree fo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xab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ree fo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xab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297080" y="2895480"/>
            <a:ext cx="5743440" cy="3355560"/>
            <a:chOff x="1297080" y="2895480"/>
            <a:chExt cx="5743440" cy="3355560"/>
          </a:xfrm>
        </p:grpSpPr>
        <p:sp>
          <p:nvSpPr>
            <p:cNvPr id="391" name=""/>
            <p:cNvSpPr/>
            <p:nvPr/>
          </p:nvSpPr>
          <p:spPr>
            <a:xfrm>
              <a:off x="251460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7520" y="579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"/>
            <p:cNvCxnSpPr>
              <a:stCxn id="391" idx="3"/>
              <a:endCxn id="394" idx="4"/>
            </p:cNvCxnSpPr>
            <p:nvPr/>
          </p:nvCxnSpPr>
          <p:spPr>
            <a:xfrm flipH="1">
              <a:off x="1485720" y="3112560"/>
              <a:ext cx="1040400" cy="1002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4" name=""/>
            <p:cNvSpPr/>
            <p:nvPr/>
          </p:nvSpPr>
          <p:spPr>
            <a:xfrm>
              <a:off x="1447920" y="4038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586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767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5486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"/>
            <p:cNvCxnSpPr>
              <a:stCxn id="391" idx="0"/>
              <a:endCxn id="396" idx="0"/>
            </p:cNvCxnSpPr>
            <p:nvPr/>
          </p:nvCxnSpPr>
          <p:spPr>
            <a:xfrm>
              <a:off x="2552400" y="3048120"/>
              <a:ext cx="762840" cy="4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9" name=""/>
            <p:cNvCxnSpPr>
              <a:stCxn id="391" idx="4"/>
              <a:endCxn id="397" idx="6"/>
            </p:cNvCxnSpPr>
            <p:nvPr/>
          </p:nvCxnSpPr>
          <p:spPr>
            <a:xfrm flipH="1">
              <a:off x="1751760" y="3124080"/>
              <a:ext cx="801000" cy="2401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0" name=""/>
            <p:cNvCxnSpPr>
              <a:stCxn id="396" idx="6"/>
              <a:endCxn id="395" idx="2"/>
            </p:cNvCxnSpPr>
            <p:nvPr/>
          </p:nvCxnSpPr>
          <p:spPr>
            <a:xfrm>
              <a:off x="3352680" y="3543120"/>
              <a:ext cx="3277440" cy="23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01" name=""/>
            <p:cNvSpPr/>
            <p:nvPr/>
          </p:nvSpPr>
          <p:spPr>
            <a:xfrm>
              <a:off x="1754280" y="426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2152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7488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020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514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78720" y="426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92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06200" y="3809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4920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72880" y="2895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42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9420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03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76720" y="47242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396" idx="6"/>
              <a:endCxn id="414" idx="6"/>
            </p:cNvCxnSpPr>
            <p:nvPr/>
          </p:nvCxnSpPr>
          <p:spPr>
            <a:xfrm>
              <a:off x="3352320" y="3543480"/>
              <a:ext cx="1080" cy="121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6" name=""/>
            <p:cNvSpPr/>
            <p:nvPr/>
          </p:nvSpPr>
          <p:spPr>
            <a:xfrm>
              <a:off x="3017880" y="373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17880" y="403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708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341720" y="3657600"/>
            <a:ext cx="4327200" cy="1907640"/>
            <a:chOff x="1341720" y="3657600"/>
            <a:chExt cx="4327200" cy="1907640"/>
          </a:xfrm>
        </p:grpSpPr>
        <p:sp>
          <p:nvSpPr>
            <p:cNvPr id="420" name=""/>
            <p:cNvSpPr/>
            <p:nvPr/>
          </p:nvSpPr>
          <p:spPr>
            <a:xfrm>
              <a:off x="30178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920" y="457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49720" y="5105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4172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514800" y="609588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1: at a leaf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7840" y="609588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3: already i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6680" y="609588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2: add a leaf edge (and an interior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209680" y="3962520"/>
            <a:ext cx="379440" cy="916920"/>
            <a:chOff x="2209680" y="3962520"/>
            <a:chExt cx="379440" cy="916920"/>
          </a:xfrm>
        </p:grpSpPr>
        <p:sp>
          <p:nvSpPr>
            <p:cNvPr id="429" name=""/>
            <p:cNvSpPr/>
            <p:nvPr/>
          </p:nvSpPr>
          <p:spPr>
            <a:xfrm>
              <a:off x="225612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9680" y="39625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9680" y="4343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2" name=""/>
            <p:cNvCxnSpPr>
              <a:stCxn id="430" idx="6"/>
              <a:endCxn id="431" idx="5"/>
            </p:cNvCxnSpPr>
            <p:nvPr/>
          </p:nvCxnSpPr>
          <p:spPr>
            <a:xfrm flipH="1">
              <a:off x="2274120" y="4000320"/>
              <a:ext cx="11880" cy="408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sp>
          <p:nvSpPr>
            <p:cNvPr id="433" name=""/>
            <p:cNvSpPr/>
            <p:nvPr/>
          </p:nvSpPr>
          <p:spPr>
            <a:xfrm>
              <a:off x="2211480" y="441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A272-AA95-4844-AD9C-46128A93D7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6000" y="457200"/>
            <a:ext cx="892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A for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xabxc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49440" y="2001960"/>
            <a:ext cx="7619760" cy="3022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952560" y="5029200"/>
            <a:ext cx="48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62040" y="5092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09960" y="5170320"/>
            <a:ext cx="3009600" cy="1268640"/>
            <a:chOff x="3009960" y="5170320"/>
            <a:chExt cx="3009600" cy="1268640"/>
          </a:xfrm>
        </p:grpSpPr>
        <p:grpSp>
          <p:nvGrpSpPr>
            <p:cNvPr id="439" name=""/>
            <p:cNvGrpSpPr/>
            <p:nvPr/>
          </p:nvGrpSpPr>
          <p:grpSpPr>
            <a:xfrm>
              <a:off x="3017880" y="5171760"/>
              <a:ext cx="2992680" cy="1265040"/>
              <a:chOff x="3017880" y="5171760"/>
              <a:chExt cx="2992680" cy="126504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3017880" y="5171760"/>
                <a:ext cx="2992680" cy="403560"/>
                <a:chOff x="3017880" y="5171760"/>
                <a:chExt cx="2992680" cy="4035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135240" y="5171760"/>
                  <a:ext cx="275760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[1,3]=ax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017880" y="5171760"/>
                  <a:ext cx="299268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017880" y="5575320"/>
                <a:ext cx="817200" cy="264960"/>
                <a:chOff x="3017880" y="5575320"/>
                <a:chExt cx="817200" cy="2649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135240" y="5575320"/>
                  <a:ext cx="58248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017880" y="5575320"/>
                  <a:ext cx="817200" cy="26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3835440" y="5575320"/>
                <a:ext cx="1013400" cy="264960"/>
                <a:chOff x="3835440" y="5575320"/>
                <a:chExt cx="1013400" cy="264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3952800" y="5575320"/>
                  <a:ext cx="77904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(j,i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35440" y="5575320"/>
                  <a:ext cx="1013400" cy="26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4849200" y="5575320"/>
                <a:ext cx="1161000" cy="264960"/>
                <a:chOff x="4849200" y="5575320"/>
                <a:chExt cx="1161000" cy="2649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66560" y="5575320"/>
                  <a:ext cx="92628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(i+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49200" y="5575320"/>
                  <a:ext cx="1161000" cy="26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3017880" y="5840280"/>
                <a:ext cx="817200" cy="198720"/>
                <a:chOff x="3017880" y="5840280"/>
                <a:chExt cx="817200" cy="1987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135240" y="5840280"/>
                  <a:ext cx="5824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017880" y="5840280"/>
                  <a:ext cx="817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835440" y="5840280"/>
                <a:ext cx="1013400" cy="198720"/>
                <a:chOff x="3835440" y="5840280"/>
                <a:chExt cx="1013400" cy="1987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952800" y="5840280"/>
                  <a:ext cx="77904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835440" y="5840280"/>
                  <a:ext cx="10134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849200" y="5840280"/>
                <a:ext cx="1161000" cy="198720"/>
                <a:chOff x="4849200" y="5840280"/>
                <a:chExt cx="1161000" cy="1987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966560" y="5840280"/>
                  <a:ext cx="9262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849200" y="5840280"/>
                  <a:ext cx="11610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017880" y="6039360"/>
                <a:ext cx="817200" cy="198720"/>
                <a:chOff x="3017880" y="6039360"/>
                <a:chExt cx="817200" cy="1987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135240" y="6039360"/>
                  <a:ext cx="5824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017880" y="6039360"/>
                  <a:ext cx="817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3835440" y="6039360"/>
                <a:ext cx="1013400" cy="198720"/>
                <a:chOff x="3835440" y="6039360"/>
                <a:chExt cx="1013400" cy="1987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3952800" y="6039360"/>
                  <a:ext cx="77904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835440" y="6039360"/>
                  <a:ext cx="10134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849200" y="6039360"/>
                <a:ext cx="1161000" cy="198720"/>
                <a:chOff x="4849200" y="6039360"/>
                <a:chExt cx="1161000" cy="1987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966560" y="6039360"/>
                  <a:ext cx="9262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849200" y="6039360"/>
                  <a:ext cx="11610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017880" y="6238080"/>
                <a:ext cx="817200" cy="198720"/>
                <a:chOff x="3017880" y="6238080"/>
                <a:chExt cx="817200" cy="1987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135240" y="6238080"/>
                  <a:ext cx="5824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017880" y="6238080"/>
                  <a:ext cx="817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835440" y="6238080"/>
                <a:ext cx="1013400" cy="198720"/>
                <a:chOff x="3835440" y="6238080"/>
                <a:chExt cx="1013400" cy="1987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952800" y="6238080"/>
                  <a:ext cx="77904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835440" y="6238080"/>
                  <a:ext cx="10134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849200" y="6238080"/>
                <a:ext cx="1161000" cy="198720"/>
                <a:chOff x="4849200" y="6238080"/>
                <a:chExt cx="1161000" cy="1987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966560" y="6238080"/>
                  <a:ext cx="9262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849200" y="6238080"/>
                  <a:ext cx="11610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"/>
            <p:cNvSpPr/>
            <p:nvPr/>
          </p:nvSpPr>
          <p:spPr>
            <a:xfrm>
              <a:off x="3009960" y="5170320"/>
              <a:ext cx="3009600" cy="1268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2600-7769-4854-8BCB-D7FD904FD2DF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4160" y="444600"/>
            <a:ext cx="805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A for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xabxc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95280" y="1646280"/>
            <a:ext cx="7886880" cy="4521240"/>
            <a:chOff x="395280" y="1646280"/>
            <a:chExt cx="7886880" cy="452124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395280" y="1646280"/>
              <a:ext cx="788688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3086280" y="1714680"/>
              <a:ext cx="2311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6651-A5C2-46E2-94C9-B49A7AE18A4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0E17-AA7C-466C-903E-8F9767E6DE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A for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xabxc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C903-148A-47C2-B4F9-C1D937BCD8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A for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xabxc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95280" y="1925640"/>
            <a:ext cx="7620120" cy="4303440"/>
            <a:chOff x="395280" y="1925640"/>
            <a:chExt cx="7620120" cy="4303440"/>
          </a:xfrm>
        </p:grpSpPr>
        <p:pic>
          <p:nvPicPr>
            <p:cNvPr id="488" name="" descr=""/>
            <p:cNvPicPr/>
            <p:nvPr/>
          </p:nvPicPr>
          <p:blipFill>
            <a:blip r:embed="rId1"/>
            <a:stretch/>
          </p:blipFill>
          <p:spPr>
            <a:xfrm>
              <a:off x="395280" y="1925640"/>
              <a:ext cx="7620120" cy="39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697640" y="5771520"/>
              <a:ext cx="222264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4A35-74A1-4C4A-AB88-861E593852F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5280" y="1633320"/>
            <a:ext cx="8432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cated in the tree, extension rules take only consta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vely we could find the end of any suffix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(S[j,i]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lking from the root of the current tree. By that approach,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created i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(m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Ukkonen’s algorithm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x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 and count tr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-labe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leaf, always a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AA17-BE6B-43D0-B12B-246A419D099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646280"/>
            <a:ext cx="822960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two string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some internal nod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tree is labeled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nother nod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v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tree is labeled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g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v,s(v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ffix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all internal nodes (the root is not considered an internal node) have suffix lin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92240" y="4813200"/>
            <a:ext cx="55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55640" y="4125960"/>
            <a:ext cx="5070600" cy="24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20C2-6979-473C-8679-4EEBB22DC62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ACACACAC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412280" y="2425680"/>
            <a:ext cx="6321960" cy="3048120"/>
            <a:chOff x="1412280" y="2425680"/>
            <a:chExt cx="6321960" cy="3048120"/>
          </a:xfrm>
        </p:grpSpPr>
        <p:sp>
          <p:nvSpPr>
            <p:cNvPr id="499" name=""/>
            <p:cNvSpPr/>
            <p:nvPr/>
          </p:nvSpPr>
          <p:spPr>
            <a:xfrm>
              <a:off x="3848040" y="265428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90840" y="32637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81360" y="402588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7840" y="455940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62040" y="53211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43480" y="3720960"/>
              <a:ext cx="30456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57680" y="4483080"/>
              <a:ext cx="30456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53160" y="28065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76440" y="53211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86480" y="3263760"/>
              <a:ext cx="30456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48240" y="410220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86680" y="3797280"/>
              <a:ext cx="30456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29680" y="5245200"/>
              <a:ext cx="30456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77040" y="44067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67560" y="524520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58080" y="4635360"/>
              <a:ext cx="30456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41080" y="27306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6" name=""/>
            <p:cNvCxnSpPr>
              <a:stCxn id="499" idx="3"/>
              <a:endCxn id="500" idx="0"/>
            </p:cNvCxnSpPr>
            <p:nvPr/>
          </p:nvCxnSpPr>
          <p:spPr>
            <a:xfrm flipH="1">
              <a:off x="3543120" y="2784240"/>
              <a:ext cx="3499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00" idx="3"/>
              <a:endCxn id="501" idx="0"/>
            </p:cNvCxnSpPr>
            <p:nvPr/>
          </p:nvCxnSpPr>
          <p:spPr>
            <a:xfrm flipH="1">
              <a:off x="2933280" y="3393720"/>
              <a:ext cx="502560" cy="63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01" idx="3"/>
              <a:endCxn id="502" idx="7"/>
            </p:cNvCxnSpPr>
            <p:nvPr/>
          </p:nvCxnSpPr>
          <p:spPr>
            <a:xfrm flipH="1">
              <a:off x="2508120" y="4155840"/>
              <a:ext cx="31788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9" name=""/>
            <p:cNvSpPr/>
            <p:nvPr/>
          </p:nvSpPr>
          <p:spPr>
            <a:xfrm>
              <a:off x="1412280" y="463536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8080" y="40258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07560" y="34164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2" name=""/>
            <p:cNvCxnSpPr>
              <a:stCxn id="502" idx="3"/>
              <a:endCxn id="503" idx="7"/>
            </p:cNvCxnSpPr>
            <p:nvPr/>
          </p:nvCxnSpPr>
          <p:spPr>
            <a:xfrm flipH="1">
              <a:off x="1821960" y="4689000"/>
              <a:ext cx="470880" cy="65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502" idx="4"/>
              <a:endCxn id="507" idx="0"/>
            </p:cNvCxnSpPr>
            <p:nvPr/>
          </p:nvCxnSpPr>
          <p:spPr>
            <a:xfrm>
              <a:off x="2400120" y="4711320"/>
              <a:ext cx="22932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501" idx="4"/>
              <a:endCxn id="505" idx="0"/>
            </p:cNvCxnSpPr>
            <p:nvPr/>
          </p:nvCxnSpPr>
          <p:spPr>
            <a:xfrm>
              <a:off x="2933640" y="4177800"/>
              <a:ext cx="766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5" name=""/>
            <p:cNvCxnSpPr>
              <a:stCxn id="500" idx="4"/>
              <a:endCxn id="504" idx="1"/>
            </p:cNvCxnSpPr>
            <p:nvPr/>
          </p:nvCxnSpPr>
          <p:spPr>
            <a:xfrm>
              <a:off x="3543120" y="3416400"/>
              <a:ext cx="45000" cy="32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6" name=""/>
            <p:cNvSpPr/>
            <p:nvPr/>
          </p:nvSpPr>
          <p:spPr>
            <a:xfrm>
              <a:off x="2538720" y="4753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26560" y="463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73920" y="394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30920" y="326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97760" y="242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21240" y="341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11760" y="417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499" idx="6"/>
              <a:endCxn id="506" idx="2"/>
            </p:cNvCxnSpPr>
            <p:nvPr/>
          </p:nvCxnSpPr>
          <p:spPr>
            <a:xfrm>
              <a:off x="4152600" y="2730240"/>
              <a:ext cx="16009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4" name=""/>
            <p:cNvCxnSpPr>
              <a:stCxn id="499" idx="5"/>
              <a:endCxn id="508" idx="1"/>
            </p:cNvCxnSpPr>
            <p:nvPr/>
          </p:nvCxnSpPr>
          <p:spPr>
            <a:xfrm>
              <a:off x="4107960" y="2784240"/>
              <a:ext cx="623160" cy="50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08" idx="4"/>
              <a:endCxn id="509" idx="0"/>
            </p:cNvCxnSpPr>
            <p:nvPr/>
          </p:nvCxnSpPr>
          <p:spPr>
            <a:xfrm>
              <a:off x="4838400" y="3416040"/>
              <a:ext cx="76284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09" idx="5"/>
              <a:endCxn id="514" idx="0"/>
            </p:cNvCxnSpPr>
            <p:nvPr/>
          </p:nvCxnSpPr>
          <p:spPr>
            <a:xfrm>
              <a:off x="5708520" y="4232160"/>
              <a:ext cx="502560" cy="40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7" name=""/>
            <p:cNvSpPr/>
            <p:nvPr/>
          </p:nvSpPr>
          <p:spPr>
            <a:xfrm>
              <a:off x="4443480" y="2771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10360" y="425448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45840" y="34923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29480" y="4863960"/>
              <a:ext cx="77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1" name=""/>
            <p:cNvCxnSpPr>
              <a:stCxn id="514" idx="5"/>
              <a:endCxn id="513" idx="0"/>
            </p:cNvCxnSpPr>
            <p:nvPr/>
          </p:nvCxnSpPr>
          <p:spPr>
            <a:xfrm>
              <a:off x="6318000" y="4765680"/>
              <a:ext cx="50184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2" name=""/>
            <p:cNvCxnSpPr>
              <a:stCxn id="508" idx="6"/>
              <a:endCxn id="510" idx="1"/>
            </p:cNvCxnSpPr>
            <p:nvPr/>
          </p:nvCxnSpPr>
          <p:spPr>
            <a:xfrm>
              <a:off x="4991040" y="3340080"/>
              <a:ext cx="134064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3" name=""/>
            <p:cNvCxnSpPr>
              <a:stCxn id="509" idx="6"/>
              <a:endCxn id="512" idx="1"/>
            </p:cNvCxnSpPr>
            <p:nvPr/>
          </p:nvCxnSpPr>
          <p:spPr>
            <a:xfrm>
              <a:off x="5752800" y="4177800"/>
              <a:ext cx="156924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"/>
            <p:cNvCxnSpPr>
              <a:stCxn id="514" idx="6"/>
              <a:endCxn id="511" idx="0"/>
            </p:cNvCxnSpPr>
            <p:nvPr/>
          </p:nvCxnSpPr>
          <p:spPr>
            <a:xfrm>
              <a:off x="6362280" y="4711680"/>
              <a:ext cx="122004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5" name=""/>
            <p:cNvSpPr/>
            <p:nvPr/>
          </p:nvSpPr>
          <p:spPr>
            <a:xfrm>
              <a:off x="2552760" y="4635360"/>
              <a:ext cx="3505320" cy="763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3085920" y="4101840"/>
              <a:ext cx="2971800" cy="53316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86280" y="4102200"/>
              <a:ext cx="2361960" cy="7596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3695760" y="3339720"/>
              <a:ext cx="1752480" cy="7621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48040" y="3340080"/>
              <a:ext cx="83844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4076640" y="3187440"/>
              <a:ext cx="609840" cy="15228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000320" y="2806200"/>
              <a:ext cx="75960" cy="38124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7477-2818-4BD5-B9EA-9F06FCCA15A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Link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6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w internal nod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path-labe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dded to the current tree in extens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ome phas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labe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ready ends at an internal node of the tree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node labe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reated in the extension of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ame phas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mpty and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FFA6-8AF5-44B9-8EDF-C0856E7E774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of of Suffix Link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07880" y="1620360"/>
            <a:ext cx="8521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internal node is created only by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xtension ru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 there are two distinct suffixes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1,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art wit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a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 there are two distinct suffixes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1,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art wit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empty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label an internal node once extens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ocessed which is the extension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A740-AA33-4C2C-9CFB-4F8BA070DED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rollary of Suffix Link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671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very internal node of an implicit 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 tree ha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 link from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27200" y="2921040"/>
            <a:ext cx="725796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4121-8633-4EDE-86EE-DC5312B1372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6880" y="57132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use suffix lin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2080" y="160020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[1,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end at a leaf since it is the longest string in the implicit tre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pointer to this leaf in all cases and extend according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ng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[j+1,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[j,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s at nod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nternal node, se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se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 = parent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oot, you must traverse from the root to find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[j+1,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go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v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egin search for the remaining portion of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[j,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752D-3484-4125-86F5-C3BE3F08DCF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use suffix lin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2680" y="1747800"/>
            <a:ext cx="7302240" cy="45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5E3A-4D5D-49A6-A63F-398077CC7A90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is any sequence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ring of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ing composed of character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 = c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subst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ty string is a substring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2D65-20BF-43CD-B099-78DCD380FD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20840" y="164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ing down from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(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irectly implemented, takes time proportional to the number of characters com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lu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time proportional to the number of nodes in the path searched, instead of the number of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91FE-7BCF-4B7D-910F-61481C98951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95280" y="14554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fter 4 nodes down-skips, the end of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S[j, i]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939960" y="2400480"/>
            <a:ext cx="6400800" cy="4190400"/>
            <a:chOff x="939960" y="2400480"/>
            <a:chExt cx="6400800" cy="419040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939960" y="2438280"/>
              <a:ext cx="6400800" cy="41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1384560" y="2400480"/>
              <a:ext cx="13590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6B30-D303-46F2-855C-7D120276E94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160" y="1912680"/>
            <a:ext cx="8113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de-depth of v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ND(v)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the number of nodes on the path from the root to the nod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ny suffix link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v, s(v)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versed in Ukkonen’s algorithm, at that moment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D(v)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ND(s(v)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7573-AFF1-4B22-B80F-78FADEFDC51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95280" y="1722240"/>
            <a:ext cx="741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oment of travers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v,s(v)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D(v)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ND(s(v)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62160" y="2863800"/>
            <a:ext cx="6010200" cy="36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9C2B6-B4E6-4D6E-908B-D8D0E8201CA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2240" y="174744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rrent node-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lgorithm is the node depth of the node most recently visited by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Using the skip and count trick, any phase of Ukkonen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lgorithm takes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Up-walk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decreases the current node-depth by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fi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x link traversal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same as up-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Total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the current node-depth is decreas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o node has depth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&gt;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total possible increment to the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ode-depth is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DE31-6E3A-4D0F-9478-69CCC183F9D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ge Label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tenti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edge labels may requi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time for the algorithm is at least as large as the size of its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length 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&lt;m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j = m(m+1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problem can happen when the length of the string is arbitrarily larger than the alphab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dges with pair of indices indicating beginning and end of positions of the substring i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5E14-8229-4E10-9887-C9EBC87F4A9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ified Extens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2: new leaf ed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h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ed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edge (p, q) =&gt; (p, w) and (w + 1, 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1: leaf edg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had to b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for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rule 2 above and an induction arg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, q) =&gt; (p, q +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939F-A1AB-4CFC-9DA7-5C7C1A4F67F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ll edge label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 = xabxa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83" idx="3"/>
            <a:endCxn id="586" idx="4"/>
          </p:cNvCxnSpPr>
          <p:nvPr/>
        </p:nvCxnSpPr>
        <p:spPr>
          <a:xfrm flipH="1">
            <a:off x="125676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1219320" y="5105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5053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62920" y="5867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419720" y="5486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"/>
          <p:cNvCxnSpPr>
            <a:stCxn id="583" idx="6"/>
            <a:endCxn id="587" idx="6"/>
          </p:cNvCxnSpPr>
          <p:nvPr/>
        </p:nvCxnSpPr>
        <p:spPr>
          <a:xfrm>
            <a:off x="312372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83" idx="5"/>
            <a:endCxn id="590" idx="2"/>
          </p:cNvCxnSpPr>
          <p:nvPr/>
        </p:nvCxnSpPr>
        <p:spPr>
          <a:xfrm>
            <a:off x="3112560" y="3112560"/>
            <a:ext cx="62172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83" idx="0"/>
            <a:endCxn id="591" idx="0"/>
          </p:cNvCxnSpPr>
          <p:nvPr/>
        </p:nvCxnSpPr>
        <p:spPr>
          <a:xfrm>
            <a:off x="308628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0" idx="2"/>
            <a:endCxn id="588" idx="6"/>
          </p:cNvCxnSpPr>
          <p:nvPr/>
        </p:nvCxnSpPr>
        <p:spPr>
          <a:xfrm flipH="1">
            <a:off x="3580920" y="3695400"/>
            <a:ext cx="15336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90" idx="3"/>
            <a:endCxn id="592" idx="6"/>
          </p:cNvCxnSpPr>
          <p:nvPr/>
        </p:nvCxnSpPr>
        <p:spPr>
          <a:xfrm>
            <a:off x="3744720" y="3722400"/>
            <a:ext cx="75132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480060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"/>
          <p:cNvCxnSpPr>
            <a:stCxn id="591" idx="4"/>
            <a:endCxn id="598" idx="1"/>
          </p:cNvCxnSpPr>
          <p:nvPr/>
        </p:nvCxnSpPr>
        <p:spPr>
          <a:xfrm flipH="1">
            <a:off x="481104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0" name=""/>
          <p:cNvCxnSpPr>
            <a:stCxn id="591" idx="6"/>
            <a:endCxn id="589" idx="2"/>
          </p:cNvCxnSpPr>
          <p:nvPr/>
        </p:nvCxnSpPr>
        <p:spPr>
          <a:xfrm>
            <a:off x="487692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38563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259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084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35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11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088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08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988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148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34448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96556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7780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11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544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213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38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31224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308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4974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48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892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02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707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E908-F37A-478E-B720-36FD5A3D21C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83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ge-label 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 = xabxa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"/>
          <p:cNvCxnSpPr>
            <a:stCxn id="626" idx="3"/>
            <a:endCxn id="629" idx="4"/>
          </p:cNvCxnSpPr>
          <p:nvPr/>
        </p:nvCxnSpPr>
        <p:spPr>
          <a:xfrm flipH="1">
            <a:off x="125676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1219320" y="5105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5053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2920" y="5867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19720" y="5486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26" idx="6"/>
            <a:endCxn id="630" idx="6"/>
          </p:cNvCxnSpPr>
          <p:nvPr/>
        </p:nvCxnSpPr>
        <p:spPr>
          <a:xfrm>
            <a:off x="312372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26" idx="5"/>
            <a:endCxn id="633" idx="2"/>
          </p:cNvCxnSpPr>
          <p:nvPr/>
        </p:nvCxnSpPr>
        <p:spPr>
          <a:xfrm>
            <a:off x="3112560" y="3112560"/>
            <a:ext cx="62172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26" idx="0"/>
            <a:endCxn id="634" idx="0"/>
          </p:cNvCxnSpPr>
          <p:nvPr/>
        </p:nvCxnSpPr>
        <p:spPr>
          <a:xfrm>
            <a:off x="308628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33" idx="2"/>
            <a:endCxn id="631" idx="6"/>
          </p:cNvCxnSpPr>
          <p:nvPr/>
        </p:nvCxnSpPr>
        <p:spPr>
          <a:xfrm flipH="1">
            <a:off x="3580920" y="3695400"/>
            <a:ext cx="15336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3" idx="3"/>
            <a:endCxn id="635" idx="6"/>
          </p:cNvCxnSpPr>
          <p:nvPr/>
        </p:nvCxnSpPr>
        <p:spPr>
          <a:xfrm>
            <a:off x="3744720" y="3722400"/>
            <a:ext cx="75132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1" name=""/>
          <p:cNvSpPr/>
          <p:nvPr/>
        </p:nvSpPr>
        <p:spPr>
          <a:xfrm>
            <a:off x="480060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>
            <a:stCxn id="634" idx="4"/>
            <a:endCxn id="641" idx="1"/>
          </p:cNvCxnSpPr>
          <p:nvPr/>
        </p:nvCxnSpPr>
        <p:spPr>
          <a:xfrm flipH="1">
            <a:off x="481104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"/>
          <p:cNvCxnSpPr>
            <a:stCxn id="634" idx="6"/>
            <a:endCxn id="632" idx="2"/>
          </p:cNvCxnSpPr>
          <p:nvPr/>
        </p:nvCxnSpPr>
        <p:spPr>
          <a:xfrm>
            <a:off x="487692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4" name=""/>
          <p:cNvSpPr/>
          <p:nvPr/>
        </p:nvSpPr>
        <p:spPr>
          <a:xfrm>
            <a:off x="3809520" y="312408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) [or (4,5)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06400" y="4648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0" y="33526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39360" y="3505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974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448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941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02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707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2520" y="37339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6560" y="40384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5720" y="42670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57320" y="4419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9FD1-DC83-4D76-937B-28E5FFE705B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545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Sto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4920" y="1734840"/>
            <a:ext cx="8521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 any phase, if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extension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pplies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xtension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it will also apply in all extensions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k&gt;j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until the end of the p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sions in phas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done after the first execution of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aid to be don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implici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is in contrast to any extens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the end of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S[j, i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xplicitly found. An extension of that kind is called and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plic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nce, we can end any phase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xtension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0527-2DC3-4D6F-8DA4-68EA8F9931CA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0120" y="2120760"/>
            <a:ext cx="8661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ce of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ing composed of character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&lt;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&l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&lt;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 = c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ty string is a subsequence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E59C-5A9B-4E14-A67F-AC54DD5D5C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1640" y="72360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Once a leaf, always a lea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(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20840" y="1658520"/>
            <a:ext cx="8051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t some point in UA a leaf is created and labele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the suffix starting at posit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that leaf will remain a leaf in all successive trees created during the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 any phase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there is an initial sequence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nsecutive extensions (starting with 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tens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)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ich only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rule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pplies, where let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e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last extension in this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926E-C5AE-4A66-8A71-DCE9AF1E4E18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965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Once a leaf, always a lea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(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Implicit extensions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for extensions 1 to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w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n the leaf edge, where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s a symb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enoting the current end and is set to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+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t the begin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n later phases, we will not need to explicitly extend this leaf but rather can implicitly extend it by incrementing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ce in its global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Explicit extensions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from extension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l 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is fou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until extens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1075-64A1-4977-A4ED-A1605C8290B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7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Once a leaf, always a lea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(3)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963440"/>
            <a:ext cx="8342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j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ast explicit extension computed in phas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mplicitly extending all existing lea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ly compute successive extensions starting at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1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Times New Roman"/>
              </a:rPr>
              <a:t>+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ntinuing until reaching the first extension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j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es or no more extension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0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j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o prepare to the nex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are at mos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licit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3F5B-2BD2-40C9-97BB-696B43C9D84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49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Example: S=axaxbb$ -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221440" y="1544760"/>
            <a:ext cx="3466800" cy="8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 = 1,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901800" y="1422360"/>
            <a:ext cx="1600200" cy="1219320"/>
            <a:chOff x="901800" y="1422360"/>
            <a:chExt cx="1600200" cy="1219320"/>
          </a:xfrm>
        </p:grpSpPr>
        <p:sp>
          <p:nvSpPr>
            <p:cNvPr id="668" name=""/>
            <p:cNvSpPr/>
            <p:nvPr/>
          </p:nvSpPr>
          <p:spPr>
            <a:xfrm>
              <a:off x="2197080" y="157464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54080" y="233676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0" name=""/>
            <p:cNvCxnSpPr>
              <a:stCxn id="668" idx="3"/>
              <a:endCxn id="669" idx="0"/>
            </p:cNvCxnSpPr>
            <p:nvPr/>
          </p:nvCxnSpPr>
          <p:spPr>
            <a:xfrm flipH="1">
              <a:off x="1282320" y="1834920"/>
              <a:ext cx="959760" cy="501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71" name=""/>
            <p:cNvSpPr/>
            <p:nvPr/>
          </p:nvSpPr>
          <p:spPr>
            <a:xfrm>
              <a:off x="1359000" y="1803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01800" y="14223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257800" y="2743200"/>
            <a:ext cx="365760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e = 2,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S[1,2] :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S[2,2] : rule 2, create(2,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901800" y="2946240"/>
            <a:ext cx="1600200" cy="1447920"/>
            <a:chOff x="901800" y="2946240"/>
            <a:chExt cx="1600200" cy="1447920"/>
          </a:xfrm>
        </p:grpSpPr>
        <p:sp>
          <p:nvSpPr>
            <p:cNvPr id="675" name=""/>
            <p:cNvSpPr/>
            <p:nvPr/>
          </p:nvSpPr>
          <p:spPr>
            <a:xfrm>
              <a:off x="2197080" y="309852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54080" y="408924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7" name=""/>
            <p:cNvCxnSpPr>
              <a:stCxn id="675" idx="3"/>
              <a:endCxn id="676" idx="0"/>
            </p:cNvCxnSpPr>
            <p:nvPr/>
          </p:nvCxnSpPr>
          <p:spPr>
            <a:xfrm flipH="1">
              <a:off x="1282320" y="3359160"/>
              <a:ext cx="95976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78" name=""/>
            <p:cNvSpPr/>
            <p:nvPr/>
          </p:nvSpPr>
          <p:spPr>
            <a:xfrm>
              <a:off x="1359000" y="33271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1800" y="2946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92520" y="408924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1" name=""/>
            <p:cNvCxnSpPr>
              <a:stCxn id="675" idx="4"/>
              <a:endCxn id="680" idx="0"/>
            </p:cNvCxnSpPr>
            <p:nvPr/>
          </p:nvCxnSpPr>
          <p:spPr>
            <a:xfrm flipH="1">
              <a:off x="2120400" y="3403080"/>
              <a:ext cx="2293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82" name=""/>
            <p:cNvSpPr/>
            <p:nvPr/>
          </p:nvSpPr>
          <p:spPr>
            <a:xfrm>
              <a:off x="1739880" y="37083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5257800" y="4724280"/>
            <a:ext cx="365760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e = 3, a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S[1,3] .. S[2,3] :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S[3,3] : ru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965160" y="4737240"/>
            <a:ext cx="1600200" cy="1447200"/>
            <a:chOff x="965160" y="4737240"/>
            <a:chExt cx="1600200" cy="1447200"/>
          </a:xfrm>
        </p:grpSpPr>
        <p:sp>
          <p:nvSpPr>
            <p:cNvPr id="685" name=""/>
            <p:cNvSpPr/>
            <p:nvPr/>
          </p:nvSpPr>
          <p:spPr>
            <a:xfrm>
              <a:off x="2260440" y="4889520"/>
              <a:ext cx="304920" cy="3042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17440" y="587988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5" idx="3"/>
              <a:endCxn id="686" idx="0"/>
            </p:cNvCxnSpPr>
            <p:nvPr/>
          </p:nvCxnSpPr>
          <p:spPr>
            <a:xfrm flipH="1">
              <a:off x="1345680" y="5149440"/>
              <a:ext cx="959760" cy="730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88" name=""/>
            <p:cNvSpPr/>
            <p:nvPr/>
          </p:nvSpPr>
          <p:spPr>
            <a:xfrm>
              <a:off x="1422360" y="5118120"/>
              <a:ext cx="4572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5160" y="47372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55880" y="587988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1" name=""/>
            <p:cNvCxnSpPr>
              <a:stCxn id="685" idx="4"/>
              <a:endCxn id="690" idx="0"/>
            </p:cNvCxnSpPr>
            <p:nvPr/>
          </p:nvCxnSpPr>
          <p:spPr>
            <a:xfrm flipH="1">
              <a:off x="2183760" y="5194080"/>
              <a:ext cx="229320" cy="686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1803240" y="549900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343C-1147-499E-AEAE-D4E4B14209FF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9040" y="7236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Example: S=axaxbb$ -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207040" y="1612800"/>
            <a:ext cx="36576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e = 4, ax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1,4] .. S[2,4]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3,4] : ru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4,4] : auto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977760" y="1650960"/>
            <a:ext cx="1600200" cy="1447920"/>
            <a:chOff x="977760" y="1650960"/>
            <a:chExt cx="1600200" cy="1447920"/>
          </a:xfrm>
        </p:grpSpPr>
        <p:sp>
          <p:nvSpPr>
            <p:cNvPr id="696" name=""/>
            <p:cNvSpPr/>
            <p:nvPr/>
          </p:nvSpPr>
          <p:spPr>
            <a:xfrm>
              <a:off x="2273040" y="180324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30040" y="279396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8" name=""/>
            <p:cNvCxnSpPr>
              <a:stCxn id="696" idx="3"/>
              <a:endCxn id="697" idx="0"/>
            </p:cNvCxnSpPr>
            <p:nvPr/>
          </p:nvCxnSpPr>
          <p:spPr>
            <a:xfrm flipH="1">
              <a:off x="1358280" y="2063880"/>
              <a:ext cx="95976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99" name=""/>
            <p:cNvSpPr/>
            <p:nvPr/>
          </p:nvSpPr>
          <p:spPr>
            <a:xfrm>
              <a:off x="1434960" y="20318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77760" y="1650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68480" y="279396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2" name=""/>
            <p:cNvCxnSpPr>
              <a:stCxn id="696" idx="4"/>
              <a:endCxn id="701" idx="0"/>
            </p:cNvCxnSpPr>
            <p:nvPr/>
          </p:nvCxnSpPr>
          <p:spPr>
            <a:xfrm flipH="1">
              <a:off x="2196360" y="2107800"/>
              <a:ext cx="2293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03" name=""/>
            <p:cNvSpPr/>
            <p:nvPr/>
          </p:nvSpPr>
          <p:spPr>
            <a:xfrm>
              <a:off x="1815840" y="241308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5194440" y="3632040"/>
            <a:ext cx="36576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e = 5, axax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1,5] .. S[2,5]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3,5] : rule 2, split (1,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(1, 2) and (3,e), create (5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4,5] : rule 2, split (2,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(2,2) and (3,e), create (5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5,5] : rule 2, create (5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57200" y="3556080"/>
            <a:ext cx="3657600" cy="2438280"/>
            <a:chOff x="457200" y="3556080"/>
            <a:chExt cx="3657600" cy="2438280"/>
          </a:xfrm>
        </p:grpSpPr>
        <p:sp>
          <p:nvSpPr>
            <p:cNvPr id="706" name=""/>
            <p:cNvSpPr/>
            <p:nvPr/>
          </p:nvSpPr>
          <p:spPr>
            <a:xfrm>
              <a:off x="2209680" y="370836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7" name=""/>
            <p:cNvCxnSpPr>
              <a:stCxn id="706" idx="3"/>
              <a:endCxn id="708" idx="7"/>
            </p:cNvCxnSpPr>
            <p:nvPr/>
          </p:nvCxnSpPr>
          <p:spPr>
            <a:xfrm flipH="1">
              <a:off x="1326600" y="3968640"/>
              <a:ext cx="927720" cy="775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09" name=""/>
            <p:cNvSpPr/>
            <p:nvPr/>
          </p:nvSpPr>
          <p:spPr>
            <a:xfrm>
              <a:off x="1371600" y="3936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14400" y="35560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57400" y="56898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2" name=""/>
            <p:cNvCxnSpPr>
              <a:stCxn id="706" idx="4"/>
              <a:endCxn id="713" idx="0"/>
            </p:cNvCxnSpPr>
            <p:nvPr/>
          </p:nvCxnSpPr>
          <p:spPr>
            <a:xfrm>
              <a:off x="2362320" y="4012920"/>
              <a:ext cx="38160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133720" y="4241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7200" y="56898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47920" y="56898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6680" y="469908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"/>
            <p:cNvCxnSpPr>
              <a:stCxn id="708" idx="3"/>
              <a:endCxn id="715" idx="0"/>
            </p:cNvCxnSpPr>
            <p:nvPr/>
          </p:nvCxnSpPr>
          <p:spPr>
            <a:xfrm flipH="1">
              <a:off x="685440" y="4959000"/>
              <a:ext cx="42624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18" name=""/>
            <p:cNvCxnSpPr>
              <a:stCxn id="708" idx="5"/>
              <a:endCxn id="716" idx="0"/>
            </p:cNvCxnSpPr>
            <p:nvPr/>
          </p:nvCxnSpPr>
          <p:spPr>
            <a:xfrm>
              <a:off x="1327320" y="4959000"/>
              <a:ext cx="34992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19" name=""/>
            <p:cNvSpPr/>
            <p:nvPr/>
          </p:nvSpPr>
          <p:spPr>
            <a:xfrm>
              <a:off x="533520" y="51562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5384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90920" y="4699080"/>
              <a:ext cx="30456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8120" y="56898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13" idx="3"/>
              <a:endCxn id="711" idx="0"/>
            </p:cNvCxnSpPr>
            <p:nvPr/>
          </p:nvCxnSpPr>
          <p:spPr>
            <a:xfrm flipH="1">
              <a:off x="2285640" y="4959000"/>
              <a:ext cx="34992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23" name=""/>
            <p:cNvCxnSpPr>
              <a:stCxn id="713" idx="5"/>
              <a:endCxn id="721" idx="0"/>
            </p:cNvCxnSpPr>
            <p:nvPr/>
          </p:nvCxnSpPr>
          <p:spPr>
            <a:xfrm>
              <a:off x="2851200" y="4959000"/>
              <a:ext cx="42624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24" name=""/>
            <p:cNvSpPr/>
            <p:nvPr/>
          </p:nvSpPr>
          <p:spPr>
            <a:xfrm>
              <a:off x="2057400" y="5079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666880" y="523260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6" name=""/>
            <p:cNvCxnSpPr>
              <a:stCxn id="708" idx="6"/>
              <a:endCxn id="713" idx="2"/>
            </p:cNvCxnSpPr>
            <p:nvPr/>
          </p:nvCxnSpPr>
          <p:spPr>
            <a:xfrm>
              <a:off x="1371240" y="4851000"/>
              <a:ext cx="1220040" cy="1080"/>
            </a:xfrm>
            <a:prstGeom prst="straightConnector1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cxnSp>
          <p:nvCxnSpPr>
            <p:cNvPr id="727" name=""/>
            <p:cNvCxnSpPr>
              <a:stCxn id="706" idx="5"/>
              <a:endCxn id="728" idx="0"/>
            </p:cNvCxnSpPr>
            <p:nvPr/>
          </p:nvCxnSpPr>
          <p:spPr>
            <a:xfrm>
              <a:off x="2469960" y="3969000"/>
              <a:ext cx="1416600" cy="80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29" name=""/>
            <p:cNvSpPr/>
            <p:nvPr/>
          </p:nvSpPr>
          <p:spPr>
            <a:xfrm>
              <a:off x="3276720" y="41655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13" idx="6"/>
              <a:endCxn id="706" idx="6"/>
            </p:cNvCxnSpPr>
            <p:nvPr/>
          </p:nvCxnSpPr>
          <p:spPr>
            <a:xfrm flipH="1" flipV="1">
              <a:off x="2514240" y="3860280"/>
              <a:ext cx="381600" cy="991080"/>
            </a:xfrm>
            <a:prstGeom prst="curvedConnector5">
              <a:avLst>
                <a:gd name="adj1" fmla="val -59962"/>
                <a:gd name="adj2" fmla="val 50000"/>
                <a:gd name="adj3" fmla="val -59962"/>
              </a:avLst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28" name=""/>
            <p:cNvSpPr/>
            <p:nvPr/>
          </p:nvSpPr>
          <p:spPr>
            <a:xfrm>
              <a:off x="3657600" y="47754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C0EC-05A5-4387-9EC9-8CEFE8E48001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Example: S=axaxbb$ -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232240" y="1752480"/>
            <a:ext cx="3657600" cy="12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e = 6, axax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1,6] .. S[5,6]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6,6] : ru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270400" y="4317840"/>
            <a:ext cx="36576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e = 7, axaxbb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1,7] .. S[5,7]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6,7] : rule 2, split (5,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(5,5) and (6,e), create (6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7,7] : rule 2, create (7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851040" y="1143000"/>
            <a:ext cx="3657600" cy="2438280"/>
            <a:chOff x="851040" y="1143000"/>
            <a:chExt cx="3657600" cy="2438280"/>
          </a:xfrm>
        </p:grpSpPr>
        <p:sp>
          <p:nvSpPr>
            <p:cNvPr id="735" name=""/>
            <p:cNvSpPr/>
            <p:nvPr/>
          </p:nvSpPr>
          <p:spPr>
            <a:xfrm>
              <a:off x="2603520" y="129528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6" name=""/>
            <p:cNvCxnSpPr>
              <a:stCxn id="735" idx="3"/>
              <a:endCxn id="737" idx="7"/>
            </p:cNvCxnSpPr>
            <p:nvPr/>
          </p:nvCxnSpPr>
          <p:spPr>
            <a:xfrm flipH="1">
              <a:off x="1720440" y="1555560"/>
              <a:ext cx="927720" cy="775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38" name=""/>
            <p:cNvSpPr/>
            <p:nvPr/>
          </p:nvSpPr>
          <p:spPr>
            <a:xfrm>
              <a:off x="1765440" y="1523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08240" y="11430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51240" y="327672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1" name=""/>
            <p:cNvCxnSpPr>
              <a:stCxn id="735" idx="4"/>
              <a:endCxn id="742" idx="0"/>
            </p:cNvCxnSpPr>
            <p:nvPr/>
          </p:nvCxnSpPr>
          <p:spPr>
            <a:xfrm>
              <a:off x="2756160" y="1599840"/>
              <a:ext cx="38160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43" name=""/>
            <p:cNvSpPr/>
            <p:nvPr/>
          </p:nvSpPr>
          <p:spPr>
            <a:xfrm>
              <a:off x="2527560" y="18288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51040" y="327672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41760" y="327672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60520" y="228600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6" name=""/>
            <p:cNvCxnSpPr>
              <a:stCxn id="737" idx="3"/>
              <a:endCxn id="744" idx="0"/>
            </p:cNvCxnSpPr>
            <p:nvPr/>
          </p:nvCxnSpPr>
          <p:spPr>
            <a:xfrm flipH="1">
              <a:off x="1079280" y="2545920"/>
              <a:ext cx="42624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47" name=""/>
            <p:cNvCxnSpPr>
              <a:stCxn id="737" idx="5"/>
              <a:endCxn id="745" idx="0"/>
            </p:cNvCxnSpPr>
            <p:nvPr/>
          </p:nvCxnSpPr>
          <p:spPr>
            <a:xfrm>
              <a:off x="1721160" y="2545920"/>
              <a:ext cx="34992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48" name=""/>
            <p:cNvSpPr/>
            <p:nvPr/>
          </p:nvSpPr>
          <p:spPr>
            <a:xfrm>
              <a:off x="927360" y="2743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36840" y="29718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84760" y="2286000"/>
              <a:ext cx="30456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41960" y="327672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42" idx="3"/>
              <a:endCxn id="740" idx="0"/>
            </p:cNvCxnSpPr>
            <p:nvPr/>
          </p:nvCxnSpPr>
          <p:spPr>
            <a:xfrm flipH="1">
              <a:off x="2679480" y="2545920"/>
              <a:ext cx="34992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52" name=""/>
            <p:cNvCxnSpPr>
              <a:stCxn id="742" idx="5"/>
              <a:endCxn id="750" idx="0"/>
            </p:cNvCxnSpPr>
            <p:nvPr/>
          </p:nvCxnSpPr>
          <p:spPr>
            <a:xfrm>
              <a:off x="3245040" y="2545920"/>
              <a:ext cx="42624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53" name=""/>
            <p:cNvSpPr/>
            <p:nvPr/>
          </p:nvSpPr>
          <p:spPr>
            <a:xfrm>
              <a:off x="2451240" y="2666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60720" y="281952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5" name=""/>
            <p:cNvCxnSpPr>
              <a:stCxn id="737" idx="6"/>
              <a:endCxn id="742" idx="2"/>
            </p:cNvCxnSpPr>
            <p:nvPr/>
          </p:nvCxnSpPr>
          <p:spPr>
            <a:xfrm>
              <a:off x="1765080" y="2437920"/>
              <a:ext cx="1220040" cy="1080"/>
            </a:xfrm>
            <a:prstGeom prst="straightConnector1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35" idx="5"/>
              <a:endCxn id="757" idx="0"/>
            </p:cNvCxnSpPr>
            <p:nvPr/>
          </p:nvCxnSpPr>
          <p:spPr>
            <a:xfrm>
              <a:off x="2863800" y="1555920"/>
              <a:ext cx="141660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58" name=""/>
            <p:cNvSpPr/>
            <p:nvPr/>
          </p:nvSpPr>
          <p:spPr>
            <a:xfrm>
              <a:off x="3670560" y="1752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9" name=""/>
            <p:cNvCxnSpPr>
              <a:stCxn id="742" idx="6"/>
              <a:endCxn id="735" idx="6"/>
            </p:cNvCxnSpPr>
            <p:nvPr/>
          </p:nvCxnSpPr>
          <p:spPr>
            <a:xfrm flipH="1" flipV="1">
              <a:off x="2908080" y="1447200"/>
              <a:ext cx="381600" cy="991080"/>
            </a:xfrm>
            <a:prstGeom prst="curvedConnector5">
              <a:avLst>
                <a:gd name="adj1" fmla="val -59962"/>
                <a:gd name="adj2" fmla="val 50000"/>
                <a:gd name="adj3" fmla="val -59962"/>
              </a:avLst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57" name=""/>
            <p:cNvSpPr/>
            <p:nvPr/>
          </p:nvSpPr>
          <p:spPr>
            <a:xfrm>
              <a:off x="4051440" y="228600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431640" y="3847680"/>
            <a:ext cx="4572000" cy="2514960"/>
            <a:chOff x="431640" y="3847680"/>
            <a:chExt cx="4572000" cy="2514960"/>
          </a:xfrm>
        </p:grpSpPr>
        <p:sp>
          <p:nvSpPr>
            <p:cNvPr id="761" name=""/>
            <p:cNvSpPr/>
            <p:nvPr/>
          </p:nvSpPr>
          <p:spPr>
            <a:xfrm>
              <a:off x="2184120" y="407664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2" name=""/>
            <p:cNvCxnSpPr>
              <a:stCxn id="761" idx="3"/>
              <a:endCxn id="763" idx="7"/>
            </p:cNvCxnSpPr>
            <p:nvPr/>
          </p:nvCxnSpPr>
          <p:spPr>
            <a:xfrm flipH="1">
              <a:off x="1301040" y="4336920"/>
              <a:ext cx="927720" cy="775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64" name=""/>
            <p:cNvSpPr/>
            <p:nvPr/>
          </p:nvSpPr>
          <p:spPr>
            <a:xfrm>
              <a:off x="1346040" y="4305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88840" y="39243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31840" y="605772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7" name=""/>
            <p:cNvCxnSpPr>
              <a:stCxn id="761" idx="4"/>
              <a:endCxn id="768" idx="0"/>
            </p:cNvCxnSpPr>
            <p:nvPr/>
          </p:nvCxnSpPr>
          <p:spPr>
            <a:xfrm>
              <a:off x="2336760" y="4381200"/>
              <a:ext cx="38160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69" name=""/>
            <p:cNvSpPr/>
            <p:nvPr/>
          </p:nvSpPr>
          <p:spPr>
            <a:xfrm>
              <a:off x="2108160" y="46101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31640" y="605772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22360" y="605772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41120" y="5067360"/>
              <a:ext cx="304920" cy="30456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2" name=""/>
            <p:cNvCxnSpPr>
              <a:stCxn id="763" idx="3"/>
              <a:endCxn id="770" idx="0"/>
            </p:cNvCxnSpPr>
            <p:nvPr/>
          </p:nvCxnSpPr>
          <p:spPr>
            <a:xfrm flipH="1">
              <a:off x="659880" y="5327640"/>
              <a:ext cx="42624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3" name=""/>
            <p:cNvCxnSpPr>
              <a:stCxn id="763" idx="5"/>
              <a:endCxn id="771" idx="0"/>
            </p:cNvCxnSpPr>
            <p:nvPr/>
          </p:nvCxnSpPr>
          <p:spPr>
            <a:xfrm>
              <a:off x="1301760" y="5327640"/>
              <a:ext cx="34992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74" name=""/>
            <p:cNvSpPr/>
            <p:nvPr/>
          </p:nvSpPr>
          <p:spPr>
            <a:xfrm>
              <a:off x="507960" y="55245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17440" y="57531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65360" y="5067360"/>
              <a:ext cx="304560" cy="30456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22560" y="605772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7" name=""/>
            <p:cNvCxnSpPr>
              <a:stCxn id="768" idx="3"/>
              <a:endCxn id="766" idx="0"/>
            </p:cNvCxnSpPr>
            <p:nvPr/>
          </p:nvCxnSpPr>
          <p:spPr>
            <a:xfrm flipH="1">
              <a:off x="2260080" y="5327640"/>
              <a:ext cx="34992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8" name=""/>
            <p:cNvCxnSpPr>
              <a:stCxn id="768" idx="5"/>
              <a:endCxn id="776" idx="0"/>
            </p:cNvCxnSpPr>
            <p:nvPr/>
          </p:nvCxnSpPr>
          <p:spPr>
            <a:xfrm>
              <a:off x="2825640" y="5327640"/>
              <a:ext cx="42624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79" name=""/>
            <p:cNvSpPr/>
            <p:nvPr/>
          </p:nvSpPr>
          <p:spPr>
            <a:xfrm>
              <a:off x="2031840" y="5448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41320" y="56005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63" idx="6"/>
              <a:endCxn id="768" idx="2"/>
            </p:cNvCxnSpPr>
            <p:nvPr/>
          </p:nvCxnSpPr>
          <p:spPr>
            <a:xfrm>
              <a:off x="1345680" y="5219280"/>
              <a:ext cx="1220040" cy="1080"/>
            </a:xfrm>
            <a:prstGeom prst="straightConnector1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82" name=""/>
            <p:cNvSpPr/>
            <p:nvPr/>
          </p:nvSpPr>
          <p:spPr>
            <a:xfrm>
              <a:off x="3708360" y="5067360"/>
              <a:ext cx="304560" cy="30456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3" name=""/>
            <p:cNvCxnSpPr>
              <a:stCxn id="761" idx="5"/>
              <a:endCxn id="782" idx="1"/>
            </p:cNvCxnSpPr>
            <p:nvPr/>
          </p:nvCxnSpPr>
          <p:spPr>
            <a:xfrm>
              <a:off x="2444400" y="4336920"/>
              <a:ext cx="1308600" cy="775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3251160" y="45338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5" name=""/>
            <p:cNvCxnSpPr>
              <a:stCxn id="768" idx="6"/>
              <a:endCxn id="761" idx="6"/>
            </p:cNvCxnSpPr>
            <p:nvPr/>
          </p:nvCxnSpPr>
          <p:spPr>
            <a:xfrm flipH="1" flipV="1">
              <a:off x="2488680" y="4228560"/>
              <a:ext cx="381600" cy="991440"/>
            </a:xfrm>
            <a:prstGeom prst="curvedConnector5">
              <a:avLst>
                <a:gd name="adj1" fmla="val -59962"/>
                <a:gd name="adj2" fmla="val 49981"/>
                <a:gd name="adj3" fmla="val -59962"/>
              </a:avLst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86" name=""/>
            <p:cNvSpPr/>
            <p:nvPr/>
          </p:nvSpPr>
          <p:spPr>
            <a:xfrm>
              <a:off x="3784320" y="598176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46440" y="529596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8" name=""/>
            <p:cNvCxnSpPr>
              <a:stCxn id="782" idx="4"/>
              <a:endCxn id="786" idx="0"/>
            </p:cNvCxnSpPr>
            <p:nvPr/>
          </p:nvCxnSpPr>
          <p:spPr>
            <a:xfrm>
              <a:off x="3860280" y="5371920"/>
              <a:ext cx="153000" cy="610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2" idx="6"/>
              <a:endCxn id="787" idx="1"/>
            </p:cNvCxnSpPr>
            <p:nvPr/>
          </p:nvCxnSpPr>
          <p:spPr>
            <a:xfrm>
              <a:off x="4012920" y="5219280"/>
              <a:ext cx="53424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90" name=""/>
            <p:cNvCxnSpPr>
              <a:stCxn id="761" idx="6"/>
              <a:endCxn id="791" idx="1"/>
            </p:cNvCxnSpPr>
            <p:nvPr/>
          </p:nvCxnSpPr>
          <p:spPr>
            <a:xfrm>
              <a:off x="2488680" y="4228920"/>
              <a:ext cx="1524600" cy="7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92" name=""/>
            <p:cNvSpPr/>
            <p:nvPr/>
          </p:nvSpPr>
          <p:spPr>
            <a:xfrm>
              <a:off x="3479760" y="55245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6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65560" y="49910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7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74840" y="40003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7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"/>
            <p:cNvCxnSpPr>
              <a:stCxn id="782" idx="7"/>
              <a:endCxn id="761" idx="7"/>
            </p:cNvCxnSpPr>
            <p:nvPr/>
          </p:nvCxnSpPr>
          <p:spPr>
            <a:xfrm flipV="1" rot="16200000">
              <a:off x="2710800" y="3853800"/>
              <a:ext cx="991440" cy="1524600"/>
            </a:xfrm>
            <a:prstGeom prst="curvedConnector5">
              <a:avLst>
                <a:gd name="adj1" fmla="val 127533"/>
                <a:gd name="adj2" fmla="val 50000"/>
                <a:gd name="adj3" fmla="val 127533"/>
              </a:avLst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4012920" y="415296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EFDA-D81C-4133-BA90-0B28D5C0C745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ity of 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ince all the implicit extensions in any phase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nstant, their total cost is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otally, onl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xplicit extensions ar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max number of down-walking skips is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ime-complexity of Ukkonen’s algorithm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344600" y="4206960"/>
            <a:ext cx="5819760" cy="19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1890-2273-4A96-9E4D-58F50B6CEF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i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79280" y="178560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final implicit suffix tree to a true suffix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just another phase of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ll suffixes will be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very leaf edge with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requires a traversal of tree which is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O(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7EA6-D8F9-488A-A34B-F68A62BB1C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ementation Issues –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5280" y="173520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size of the alphabet grow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trees suffix links allow an algorithm to move quickly from one part of the tree to a distant part of the tree. This i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r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st-case time bo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it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orr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ee isn't entirely in 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implementing ST to reduce practical space use can be a serious conc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design issues are how to represent and search the branches out of the nodes of th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actical design must balance between constraints of space and need for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7425-C6DB-49ED-BCA9-F21175ADDCE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ementation Issues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7840" y="1633680"/>
            <a:ext cx="84200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basic choices to represent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) at each non-leaf nod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ked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nod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haracters that appear at the beginning of the edge-labels out of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s kep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rted 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reduces the average time to search for a given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worst case it, adds time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to every node operation. If the number of children of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arge, then little space is saved over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le noticeably degrading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lanced t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s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nod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s and searches tak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(lo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(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ace, wher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umber of children of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is alternative makes sense only whe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airly l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ashing sche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challenge is to find a scheme balancing space with speed. For large trees and alphabets hashing is very attractive at least for some of the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82F3-4F67-41EC-BF7D-B302431537A1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5860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ing/Pattern Matching -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iven a source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we have to answer queries of the form: is the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string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uth-Morris-Pratt (KMP) string mat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|S| + |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per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n|S|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fo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|S|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fo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6CD7-ACE3-47DE-8BEB-5A6EF8FF12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ementation Issues –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large enough, the best design is probably a mixture of the above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near the root of the tree tend to have the most children, so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r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sible choice at those no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des in the middle of a suffix tree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ash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lan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ees may be the best ch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 alphabet size is explicitly presented  in the time and space b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time i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O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g|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|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using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|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ace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s the size of the st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71DA-C4E8-4F70-880F-52B473EA8C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50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plications of Suffix Tre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082D-9396-4F05-869A-0C5C85729F43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lications of Suffix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33440" y="1684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 string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tring problem for a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est common subst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ffix arr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D2C5-60E6-46F5-B662-C59007DCD52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ct String Matching –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07520" y="1531440"/>
            <a:ext cx="833148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matching problem: given a patter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tex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 all occurrences of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O(n+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S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a ST for text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characters of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ong the unique path in ST until either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hausted or no more matches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tter case,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appear anywhere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rmer case, every leaf in the subtree below the point of the last match is numbered with a starting location of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every starting location of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mbers such a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 approach spends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processing time and the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(n+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rch time, where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umber of occurrences of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F540-17CF-48B2-B5F9-E7D759ACEA1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ct String Matching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earch terminates at an element nod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s exactly once in the source string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earch f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inates at a branch node, each element node in the subtree rooted at this branch node gives a different occurrence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022400" y="4102200"/>
            <a:ext cx="6889320" cy="2198520"/>
            <a:chOff x="1022400" y="4102200"/>
            <a:chExt cx="6889320" cy="2198520"/>
          </a:xfrm>
        </p:grpSpPr>
        <p:grpSp>
          <p:nvGrpSpPr>
            <p:cNvPr id="816" name=""/>
            <p:cNvGrpSpPr/>
            <p:nvPr/>
          </p:nvGrpSpPr>
          <p:grpSpPr>
            <a:xfrm>
              <a:off x="1022400" y="4225680"/>
              <a:ext cx="6889320" cy="2075040"/>
              <a:chOff x="1022400" y="4225680"/>
              <a:chExt cx="6889320" cy="207504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1022400" y="4225680"/>
                <a:ext cx="2841120" cy="1822680"/>
                <a:chOff x="1022400" y="4225680"/>
                <a:chExt cx="2841120" cy="182268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1593720" y="5689440"/>
                  <a:ext cx="309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9" name=""/>
                <p:cNvGrpSpPr/>
                <p:nvPr/>
              </p:nvGrpSpPr>
              <p:grpSpPr>
                <a:xfrm>
                  <a:off x="1022400" y="4225680"/>
                  <a:ext cx="2841120" cy="1822680"/>
                  <a:chOff x="1022400" y="4225680"/>
                  <a:chExt cx="2841120" cy="182268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2349360" y="4225680"/>
                    <a:ext cx="3279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x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320560" y="4316040"/>
                    <a:ext cx="1368000" cy="136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311200" y="4301640"/>
                    <a:ext cx="360000" cy="136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1734840" y="4301640"/>
                    <a:ext cx="576000" cy="136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1158120" y="4301640"/>
                    <a:ext cx="1152360" cy="136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671560" y="4662000"/>
                    <a:ext cx="431280" cy="100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66480" y="4878000"/>
                    <a:ext cx="286920" cy="79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273040" y="4276440"/>
                    <a:ext cx="7272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646000" y="464940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422440" y="4854240"/>
                    <a:ext cx="7236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641400" y="564480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074760" y="564480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636640" y="564948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131920" y="5649480"/>
                    <a:ext cx="7236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698480" y="564948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122120" y="5640120"/>
                    <a:ext cx="7272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3554280" y="568764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974680" y="568944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45920" y="569412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031840" y="568944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022400" y="567036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493720" y="4365360"/>
                    <a:ext cx="328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752560" y="4614480"/>
                    <a:ext cx="328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968200" y="4830480"/>
                    <a:ext cx="3283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x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184200" y="5046480"/>
                    <a:ext cx="3283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400200" y="5262120"/>
                    <a:ext cx="328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889000" y="5141520"/>
                    <a:ext cx="328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489040" y="4636800"/>
                    <a:ext cx="3283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327040" y="4479480"/>
                    <a:ext cx="2710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435040" y="483516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479320" y="503208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x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33320" y="521928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87320" y="540684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219040" y="476712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103120" y="514620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814400" y="483372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1854000" y="4392360"/>
                    <a:ext cx="2901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636560" y="4636800"/>
                    <a:ext cx="2901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x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409400" y="4914720"/>
                    <a:ext cx="2901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196640" y="5187600"/>
                    <a:ext cx="2901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"/>
              <p:cNvSpPr/>
              <p:nvPr/>
            </p:nvSpPr>
            <p:spPr>
              <a:xfrm>
                <a:off x="4063680" y="4381200"/>
                <a:ext cx="3848040" cy="191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otes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 = xa; T = xabxa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attern P matches a path down to the point shown by an arrow, and as required, the leaves below that point are numbered 1 and 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>
              <a:off x="2768400" y="4102200"/>
              <a:ext cx="46980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FF4B-37D3-46E1-BD19-D9812B3E34D2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ubstring Problem for a Databa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2240" y="154440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a database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a set of strings) and a string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 all the strings in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ntaining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Usage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dentity of th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xact string matching methods: canno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tr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 stored in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total length of all the strings in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x tree is built in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ach lookup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length of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sts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AC0E-CA6E-44FE-A86B-C9D311127E07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7505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est common substring –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2680" y="16081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two strings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 the longest substring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mmon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common-sub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common-sub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qu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common-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F020-E4FC-4570-997B-224367209D7E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est common substring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95280" y="1633320"/>
            <a:ext cx="83440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uild a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tree for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ach leaf represents either a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from one of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or a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from both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ark each internal node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1 (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f there i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leaf in the subtree of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epresenting a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ath-label of any internal node marked both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s a substring common to both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the longest such string is the longest comm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b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5C9A-3060-488F-A460-BCD168C60F02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535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est common substring –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31920" y="170964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ab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c$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ab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$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ab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453960" y="2585880"/>
            <a:ext cx="7067520" cy="366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8073-6E6B-48C7-83B7-8406E2B50204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Arrays –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20840" y="153144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 array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f an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character string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is 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rray of integers in the range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specif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lexicographic order of the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es of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abx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952560" y="3427560"/>
            <a:ext cx="6477120" cy="2771640"/>
            <a:chOff x="952560" y="3427560"/>
            <a:chExt cx="6477120" cy="2771640"/>
          </a:xfrm>
        </p:grpSpPr>
        <p:pic>
          <p:nvPicPr>
            <p:cNvPr id="874" name="" descr=""/>
            <p:cNvPicPr/>
            <p:nvPr/>
          </p:nvPicPr>
          <p:blipFill>
            <a:blip r:embed="rId1"/>
            <a:stretch/>
          </p:blipFill>
          <p:spPr>
            <a:xfrm>
              <a:off x="952560" y="3427560"/>
              <a:ext cx="6477120" cy="27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5" name=""/>
            <p:cNvGrpSpPr/>
            <p:nvPr/>
          </p:nvGrpSpPr>
          <p:grpSpPr>
            <a:xfrm>
              <a:off x="6372360" y="4902120"/>
              <a:ext cx="766800" cy="381240"/>
              <a:chOff x="6372360" y="4902120"/>
              <a:chExt cx="766800" cy="381240"/>
            </a:xfrm>
          </p:grpSpPr>
          <p:pic>
            <p:nvPicPr>
              <p:cNvPr id="8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2360" y="4902120"/>
                <a:ext cx="3618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05440" y="4925880"/>
                <a:ext cx="333720" cy="33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ECE1-5CBC-40DF-AD4A-648BD00567C0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ing/Pattern Matching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2840" y="1549080"/>
            <a:ext cx="810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P preprocesses the query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as the suffix tree method preprocesses the source string (text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ffix tree for the text is built i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(m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ime during a pre-processing stage; thereafter, whenever a string of leng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(n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input, the algorithm searches it i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(n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ime using that suffix tre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CD06-ABF3-4580-84D1-B450E77435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Arrays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31560" y="1722240"/>
            <a:ext cx="844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 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 array of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an be obtained from the 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ree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y performing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lexical depth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1295280" y="3327480"/>
            <a:ext cx="5592960" cy="3039840"/>
            <a:chOff x="1295280" y="3327480"/>
            <a:chExt cx="5592960" cy="3039840"/>
          </a:xfrm>
        </p:grpSpPr>
        <p:pic>
          <p:nvPicPr>
            <p:cNvPr id="881" name="" descr=""/>
            <p:cNvPicPr/>
            <p:nvPr/>
          </p:nvPicPr>
          <p:blipFill>
            <a:blip r:embed="rId1"/>
            <a:stretch/>
          </p:blipFill>
          <p:spPr>
            <a:xfrm>
              <a:off x="1379520" y="3460680"/>
              <a:ext cx="550872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1295280" y="332748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1171-C9E1-4310-9D86-753BCEB85E70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Array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ct string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57120" y="1671120"/>
            <a:ext cx="8151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Given two strings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|T |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|P|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 all the occurrences of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Using the binary search on the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array of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occurrences of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P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an be found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xample: let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abxac and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2255760" y="4794120"/>
            <a:ext cx="4581720" cy="1105200"/>
            <a:chOff x="2255760" y="4794120"/>
            <a:chExt cx="4581720" cy="1105200"/>
          </a:xfrm>
        </p:grpSpPr>
        <p:pic>
          <p:nvPicPr>
            <p:cNvPr id="886" name="" descr=""/>
            <p:cNvPicPr/>
            <p:nvPr/>
          </p:nvPicPr>
          <p:blipFill>
            <a:blip r:embed="rId1"/>
            <a:stretch/>
          </p:blipFill>
          <p:spPr>
            <a:xfrm>
              <a:off x="2255760" y="4794120"/>
              <a:ext cx="458172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2"/>
            <a:stretch/>
          </p:blipFill>
          <p:spPr>
            <a:xfrm>
              <a:off x="5846760" y="5384880"/>
              <a:ext cx="2952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3"/>
            <a:stretch/>
          </p:blipFill>
          <p:spPr>
            <a:xfrm>
              <a:off x="6256440" y="5415120"/>
              <a:ext cx="314280" cy="29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24D7-4079-4381-810F-A741BF0FF3E5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521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an Gus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lgorithms on Strings, Trees, and Sequ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Cambridge University P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 Hu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: A database index to large biological sequenc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lides 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LD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.C.T. Lee and Chin Lung 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: Suffix Trees. Slides at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CS 5313 Algorithms for Molecular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004B-AE0C-40E0-B58C-5D016DAA53F4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0840" y="41868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ing Match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ixes &amp; Suf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1422000"/>
            <a:ext cx="855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rings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ginning at the first position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fi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substrings that end at its last position are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ffi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=AAC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xes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xes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string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fix of some suffix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ffix Tre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5C58-1D3E-49F8-8A99-1FA19D9FDC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3:16:35Z</dcterms:created>
  <dc:creator>Server234</dc:creator>
  <dc:description/>
  <dc:language>en-US</dc:language>
  <cp:lastModifiedBy>server 1</cp:lastModifiedBy>
  <dcterms:modified xsi:type="dcterms:W3CDTF">2003-04-10T10:41:42Z</dcterms:modified>
  <cp:revision>167</cp:revision>
  <dc:subject/>
  <dc:title>Cupid </dc:title>
</cp:coreProperties>
</file>